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EF3-6EA7-428D-B227-7AB06ACC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D89-62E1-46B0-AB49-AD710C5B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A0B-5AAE-4E25-9027-7E0A5840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813-804E-40E0-9B71-722F601F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A48-386A-4833-BD4C-FF42E13A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F21-F28C-4C0F-8F82-5A7A8FBF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A16-D916-457E-8D67-490E4507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BEE-E30A-40A6-B0F7-038DE9FA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A70-C07B-4502-88FB-D1E0CC96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13A-D8D0-49CE-AD73-7FDA4EF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D6F-018F-4D95-9D7E-1BD0A6C3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3B7-DCBB-4112-97E1-68BE6919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92E5-C34E-416F-A612-6A246D9EA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1 Do sveta bôľu, žalost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bôľu, žal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lúdenia bez ci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poslal z veľk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hriešnym Spasit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ykupiteľ, Boh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liek na rany sve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jeho krvi spásu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zjaviť láska 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všetka bolesť stíchne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é zdravie žiar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navždy zotrie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še slzy z tvá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29:33Z</dcterms:modified>
  <cp:revision>31</cp:revision>
  <dc:subject/>
  <dc:title>Je veľký náš Pán, on slávy je Kráľ Nech do všetkých strán  spev vrúcnych znie chvál.</dc:title>
</cp:coreProperties>
</file>